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13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3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28F5A5-2300-4C39-B05D-5F53B7CD3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661EBAC-5623-4264-A9D6-0A4EE2D91E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E61E6E0-2FEC-4E8A-B5FF-9B48837A55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2756DF-1729-4FDD-92F1-64C9EC9B1D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49A8E2-B3EF-4D2D-91F8-209AE20E8F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80833DF-CDCC-48CF-9351-5B993D1A2B4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D772C09-6B2E-465C-B1C9-857F3750E1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5CB24E-8487-49AC-98FD-7307F7F897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8ED734-73F6-48C5-A826-07ECB409A4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902040" y="95187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B1C281-141C-4D15-AEFC-422F9B8914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39960" y="752400"/>
            <a:ext cx="5008320" cy="375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563F-B2D4-4E31-8BCE-ADD69B40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4E0-1F4E-487C-AD04-B7595025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38B-B071-4C5D-840B-2D3B6031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AC21-3FBF-4B06-92EE-F1B39F96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30B-C78E-43E4-A048-C18B29A0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D5C-25B3-4293-9978-9C7FABC1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638-7182-4030-968E-86A2948E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8903-6414-496C-8E90-1A62948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124-80DC-4299-9B44-9D2CD0D3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64C-8091-4778-ACB5-7010704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7AC-3053-4988-9DE2-825DFD3F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BE4-4732-4E0F-A460-286701F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E933-1653-4B1C-9322-CC428CAFE3E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7.xml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ytoskeleton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Introduction to Eukaryotic cell structur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23640" y="2565360"/>
            <a:ext cx="815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ukaryotic cell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 of cell organel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unction of cell structural com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ces between plant and animal ce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vision of labour within a c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DNA and histone proteins form chromatin. During cell division chromatin condenses to form visible chromosomes (prophase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Picture 3" descr="DNA and histone proteins are packaged into structures called chromosomes."/>
          <p:cNvPicPr/>
          <p:nvPr/>
        </p:nvPicPr>
        <p:blipFill>
          <a:blip r:embed="rId1"/>
          <a:stretch/>
        </p:blipFill>
        <p:spPr>
          <a:xfrm>
            <a:off x="1763640" y="2060640"/>
            <a:ext cx="55436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mitochondrion"/>
          <p:cNvPicPr/>
          <p:nvPr/>
        </p:nvPicPr>
        <p:blipFill>
          <a:blip r:embed="rId1"/>
          <a:stretch/>
        </p:blipFill>
        <p:spPr>
          <a:xfrm>
            <a:off x="395280" y="836640"/>
            <a:ext cx="8496360" cy="5832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68360" y="26028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e Mitochond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250px-Mitochondria,_mammalian_lung_-_TEM"/>
          <p:cNvPicPr/>
          <p:nvPr/>
        </p:nvPicPr>
        <p:blipFill>
          <a:blip r:embed="rId1"/>
          <a:stretch/>
        </p:blipFill>
        <p:spPr>
          <a:xfrm>
            <a:off x="539640" y="2492280"/>
            <a:ext cx="3311640" cy="2490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mitmor4"/>
          <p:cNvPicPr/>
          <p:nvPr/>
        </p:nvPicPr>
        <p:blipFill>
          <a:blip r:embed="rId2"/>
          <a:stretch/>
        </p:blipFill>
        <p:spPr>
          <a:xfrm>
            <a:off x="4572000" y="2565360"/>
            <a:ext cx="3686040" cy="249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The Mitochond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The Mitochondr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itochondria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pleural)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itochondr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single) are sites isolated from the rest of the cytoplasm where enzyme-catalysed reactions of respiration take pla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ir main function is to synthesis ATP (adenosine tri-phospha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organelle has a double unit membrane – the inner one being highly folded to increase surface area called the crista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inner and outer membrane are separated by a narrow fluid filled inter membrane s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interior of the mitochondria contains a fluid called the matri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me of the reactions of aerobic respiration takes place in the matrix while others on the inner membra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itochondria have their own DNA (the genes code for respiratory enzym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2"/>
          <p:cNvGrpSpPr/>
          <p:nvPr/>
        </p:nvGrpSpPr>
        <p:grpSpPr>
          <a:xfrm>
            <a:off x="611280" y="1644480"/>
            <a:ext cx="7777080" cy="4851360"/>
            <a:chOff x="611280" y="1644480"/>
            <a:chExt cx="7777080" cy="4851360"/>
          </a:xfrm>
        </p:grpSpPr>
        <p:pic>
          <p:nvPicPr>
            <p:cNvPr id="103" name="Picture 5" descr="CE232300FG0010"/>
            <p:cNvPicPr/>
            <p:nvPr/>
          </p:nvPicPr>
          <p:blipFill>
            <a:blip r:embed="rId1"/>
            <a:stretch/>
          </p:blipFill>
          <p:spPr>
            <a:xfrm>
              <a:off x="611280" y="1644480"/>
              <a:ext cx="7777080" cy="475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6"/>
            <p:cNvSpPr/>
            <p:nvPr/>
          </p:nvSpPr>
          <p:spPr>
            <a:xfrm>
              <a:off x="4878000" y="4945320"/>
              <a:ext cx="337140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Smooth Endoplasmic Reticulu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74800" y="5167440"/>
              <a:ext cx="1376280" cy="45972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Nucleu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4808160" y="5670360"/>
              <a:ext cx="151416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Nuclear envelope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747720" y="2482920"/>
              <a:ext cx="3028680" cy="119124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Rough endoplasmic reticulum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5152680" y="2650320"/>
              <a:ext cx="3235320" cy="82548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Transitional element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Text Box 11"/>
            <p:cNvSpPr/>
            <p:nvPr/>
          </p:nvSpPr>
          <p:spPr>
            <a:xfrm>
              <a:off x="5635080" y="1755360"/>
              <a:ext cx="2409840" cy="459720"/>
            </a:xfrm>
            <a:prstGeom prst="rect">
              <a:avLst/>
            </a:prstGeom>
            <a:solidFill>
              <a:srgbClr val="2b54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Golgi body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0" name="Rectangle 13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82960" y="524340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ugh 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10" descr="SER1"/>
          <p:cNvPicPr/>
          <p:nvPr/>
        </p:nvPicPr>
        <p:blipFill>
          <a:blip r:embed="rId1"/>
          <a:stretch/>
        </p:blipFill>
        <p:spPr>
          <a:xfrm>
            <a:off x="468360" y="2781360"/>
            <a:ext cx="5715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ough and smooth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 Endoplasmic Reticulum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5472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re is a system of flattened membranes which form sacs in the cytoplasm of all eukaryotic cells called Endoplasmic Reticulu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 is continuous with the nuclear membrane and can link to the Golgi bo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 function is to transport substances throughout the cel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he fluid filled spaces between the membranes are called cisterna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R encrusted with ribosomes is called Rough ER, whilst that devoid of ribosomes is smooth ER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mooth ER is concerned with lipid metabolism and the manufacture of steroid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ough ER transports proteins made by the ribosom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4" descr="endoplamsic"/>
          <p:cNvPicPr/>
          <p:nvPr/>
        </p:nvPicPr>
        <p:blipFill>
          <a:blip r:embed="rId1"/>
          <a:stretch/>
        </p:blipFill>
        <p:spPr>
          <a:xfrm>
            <a:off x="6084720" y="2565360"/>
            <a:ext cx="266544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ribosome"/>
          <p:cNvPicPr/>
          <p:nvPr/>
        </p:nvPicPr>
        <p:blipFill>
          <a:blip r:embed="rId1"/>
          <a:stretch/>
        </p:blipFill>
        <p:spPr>
          <a:xfrm>
            <a:off x="1042920" y="1052640"/>
            <a:ext cx="6842160" cy="47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7" descr="Graphic"/>
          <p:cNvPicPr/>
          <p:nvPr/>
        </p:nvPicPr>
        <p:blipFill>
          <a:blip r:embed="rId1"/>
          <a:stretch/>
        </p:blipFill>
        <p:spPr>
          <a:xfrm>
            <a:off x="395280" y="1778040"/>
            <a:ext cx="496872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Ribosom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are the sites of protein synthesis within cells and are composed of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ibosomal RN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protei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ibosomes are synthesised in a region of the nucleus called the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ucleolu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be attached to the ER or free-floating in eukaryotic cells but only free-floating in prokaryotic cell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tached ribosomes make proteins used outside the cel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ree-floating ribosomes make protein for use inside the ce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ukaryotic ce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eukaryotic cell structure is found in all plants, animals, fungi and protoct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mplex structure allows for the specialisation of cells to perform certain fun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th the specialisation of function, cells can form tissues which can work together to form an or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ence eukaryotic cells can form complex multicellular organis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image001"/>
          <p:cNvPicPr/>
          <p:nvPr/>
        </p:nvPicPr>
        <p:blipFill>
          <a:blip r:embed="rId1"/>
          <a:stretch/>
        </p:blipFill>
        <p:spPr>
          <a:xfrm>
            <a:off x="1619280" y="1341360"/>
            <a:ext cx="5761080" cy="5284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Golgi B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Golgi Bod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6" name="Picture 5" descr="golgia"/>
          <p:cNvPicPr/>
          <p:nvPr/>
        </p:nvPicPr>
        <p:blipFill>
          <a:blip r:embed="rId1"/>
          <a:stretch/>
        </p:blipFill>
        <p:spPr>
          <a:xfrm>
            <a:off x="1619280" y="1720800"/>
            <a:ext cx="64087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6"/>
          <p:cNvSpPr/>
          <p:nvPr/>
        </p:nvSpPr>
        <p:spPr>
          <a:xfrm>
            <a:off x="1835280" y="26028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ffff"/>
                </a:solidFill>
                <a:uFillTx/>
                <a:latin typeface="Arial"/>
              </a:rPr>
              <a:t>Action of Lysosom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0" descr="101fig_lysosome"/>
          <p:cNvPicPr/>
          <p:nvPr/>
        </p:nvPicPr>
        <p:blipFill>
          <a:blip r:embed="rId1"/>
          <a:stretch/>
        </p:blipFill>
        <p:spPr>
          <a:xfrm>
            <a:off x="1116000" y="1287360"/>
            <a:ext cx="66960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Lysos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0" name="Picture 5" descr="golgilys"/>
          <p:cNvPicPr/>
          <p:nvPr/>
        </p:nvPicPr>
        <p:blipFill>
          <a:blip r:embed="rId1"/>
          <a:stretch/>
        </p:blipFill>
        <p:spPr>
          <a:xfrm>
            <a:off x="2050920" y="1892160"/>
            <a:ext cx="525780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Lysos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rger vesicles surrounded by a single unit membrane - formed from the Golgi bod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ontain hydrolytic enzymes (proteases and lipases) to digest the contents of food vacuoles with which they fuse.  (Phagocyto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y can also fuse with and digest worn out cellular organelles. The entire cell can be destroyed on occasions when the lysosomes break down (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suicide bag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centriolesfigure1"/>
          <p:cNvPicPr/>
          <p:nvPr/>
        </p:nvPicPr>
        <p:blipFill>
          <a:blip r:embed="rId1"/>
          <a:stretch/>
        </p:blipFill>
        <p:spPr>
          <a:xfrm>
            <a:off x="684360" y="836640"/>
            <a:ext cx="4897440" cy="354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entrpr"/>
          <p:cNvPicPr/>
          <p:nvPr/>
        </p:nvPicPr>
        <p:blipFill>
          <a:blip r:embed="rId2"/>
          <a:stretch/>
        </p:blipFill>
        <p:spPr>
          <a:xfrm>
            <a:off x="5796000" y="3535200"/>
            <a:ext cx="31687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entriole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entrioles are found in all animal cells, protoctists but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ot in higher plant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found outside the nucleus in a region of the cytoplasm called the centroso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se have a 9 + 2 microtubular arrangement when viewed in cross-sectio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nsist of two hollow cylinders positioned at right angles to each oth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are the regions from which the spindle fibres emerge during cell division. Centrioles migrate to opposite ends of the nucleus and molecules of tubulin (a dimer protein with a large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lecular weight) polymerise to form the spind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chlrplat3-50"/>
          <p:cNvPicPr/>
          <p:nvPr/>
        </p:nvPicPr>
        <p:blipFill>
          <a:blip r:embed="rId1"/>
          <a:stretch/>
        </p:blipFill>
        <p:spPr>
          <a:xfrm>
            <a:off x="324000" y="333360"/>
            <a:ext cx="839304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em-chloroplast1"/>
          <p:cNvPicPr/>
          <p:nvPr/>
        </p:nvPicPr>
        <p:blipFill>
          <a:blip r:embed="rId1"/>
          <a:stretch/>
        </p:blipFill>
        <p:spPr>
          <a:xfrm>
            <a:off x="395280" y="2492280"/>
            <a:ext cx="3311640" cy="271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F05-43A"/>
          <p:cNvPicPr/>
          <p:nvPr/>
        </p:nvPicPr>
        <p:blipFill>
          <a:blip r:embed="rId2"/>
          <a:stretch/>
        </p:blipFill>
        <p:spPr>
          <a:xfrm>
            <a:off x="4572000" y="1557360"/>
            <a:ext cx="3591000" cy="475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hloroplast (Plants on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Chloroplast (Plants only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tes isolated from the rest of the cytoplasm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in eukaryotic plant cell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where reactions of photosynthesis occu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nsist of a double membrane with a fluid filled stro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stroma contains ribosomes, lipid, circular DNA and st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hylakoids (stack of pennies) form the granum and house the photosynthetic pig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thylakoids are adapted to form a large surface area to trap l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in function is to manufacture reduced nicotinamide adenine dinucleotide phosphate (NADP.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TP in the light dependent reactions, to use in the light independent reactions to fix 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to a storage carbohydrate (Starch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animal4"/>
          <p:cNvPicPr/>
          <p:nvPr/>
        </p:nvPicPr>
        <p:blipFill>
          <a:blip r:embed="rId1"/>
          <a:stretch/>
        </p:blipFill>
        <p:spPr>
          <a:xfrm>
            <a:off x="826920" y="836640"/>
            <a:ext cx="7777440" cy="5545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03640" y="2602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animal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684360" y="803160"/>
            <a:ext cx="8092440" cy="6054840"/>
            <a:chOff x="684360" y="803160"/>
            <a:chExt cx="8092440" cy="6054840"/>
          </a:xfrm>
        </p:grpSpPr>
        <p:pic>
          <p:nvPicPr>
            <p:cNvPr id="145" name="Picture 5" descr="plantvacuolesfigure1"/>
            <p:cNvPicPr/>
            <p:nvPr/>
          </p:nvPicPr>
          <p:blipFill>
            <a:blip r:embed="rId1"/>
            <a:stretch/>
          </p:blipFill>
          <p:spPr>
            <a:xfrm>
              <a:off x="684360" y="803160"/>
              <a:ext cx="453672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Colpidium_vacuoles"/>
            <p:cNvPicPr/>
            <p:nvPr/>
          </p:nvPicPr>
          <p:blipFill>
            <a:blip r:embed="rId2"/>
            <a:stretch/>
          </p:blipFill>
          <p:spPr>
            <a:xfrm>
              <a:off x="5940360" y="876240"/>
              <a:ext cx="2399760" cy="17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9" descr="echaff_vacuoles_large"/>
            <p:cNvPicPr/>
            <p:nvPr/>
          </p:nvPicPr>
          <p:blipFill>
            <a:blip r:embed="rId3"/>
            <a:stretch/>
          </p:blipFill>
          <p:spPr>
            <a:xfrm>
              <a:off x="5653080" y="3108240"/>
              <a:ext cx="3123720" cy="374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Rectangle 11"/>
          <p:cNvSpPr/>
          <p:nvPr/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Permanent Vacuo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Tahoma"/>
              </a:rPr>
              <a:t>Permanent Vacuol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include numerous small vesicles found in animal cells (food vacuoles) and a large central cavity surrounded by a single membrane called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he tonopla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in plant cel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animal cells vacuoles are a temporary store of food and secre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 plants the permanent vacuole is a store of amino acids, carbohydrates and lipids (mainly oils). They also store tannins and other substances that comprise cell sa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ell sap provides an osmotic system which plants can alter to move water in and 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Structural components of the cel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se are the structural elements of the cell required for protection, shape, boundary layers and mov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llulose cell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ytoskele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lagella and ci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lasma membr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ellulose cell wa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70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ell wall consists of cellulose microfibrils embedded in a polysaccharide matri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ell wall provides strength and support and also permits the movement of water from cell to cell via the plasmodesma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cellwallfigure1"/>
          <p:cNvPicPr/>
          <p:nvPr/>
        </p:nvPicPr>
        <p:blipFill>
          <a:blip r:embed="rId1"/>
          <a:stretch/>
        </p:blipFill>
        <p:spPr>
          <a:xfrm>
            <a:off x="4716360" y="2492280"/>
            <a:ext cx="42577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3429000" y="2286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lasmodesmat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4932360" y="1844640"/>
            <a:ext cx="31669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are gaps in the cell wall that allow neighbouring cells to link togeth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 continuation of </a:t>
            </a:r>
            <a:r>
              <a:rPr b="0" lang="en-GB" sz="2400" spc="-1" strike="noStrike" u="sng">
                <a:solidFill>
                  <a:srgbClr val="00ccff"/>
                </a:solidFill>
                <a:uFillTx/>
                <a:latin typeface="Arial"/>
                <a:hlinkClick r:id="rId1" action="ppaction://hlinksldjump"/>
              </a:rPr>
              <a:t>cytoplas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rom cell to cell and the </a:t>
            </a:r>
            <a:r>
              <a:rPr b="0" lang="en-GB" sz="2400" spc="-1" strike="noStrike" u="sng">
                <a:solidFill>
                  <a:srgbClr val="00ccff"/>
                </a:solidFill>
                <a:uFillTx/>
                <a:latin typeface="Arial"/>
                <a:hlinkClick r:id="rId2" action="ppaction://hlinksldjump"/>
              </a:rPr>
              <a:t>endoplasmic reticulum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lso be link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903" descr="10"/>
          <p:cNvPicPr/>
          <p:nvPr/>
        </p:nvPicPr>
        <p:blipFill>
          <a:blip r:embed="rId3"/>
          <a:stretch/>
        </p:blipFill>
        <p:spPr>
          <a:xfrm>
            <a:off x="684360" y="1341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05" descr="4_22plasmodesmata"/>
          <p:cNvPicPr/>
          <p:nvPr/>
        </p:nvPicPr>
        <p:blipFill>
          <a:blip r:embed="rId4"/>
          <a:stretch/>
        </p:blipFill>
        <p:spPr>
          <a:xfrm>
            <a:off x="971640" y="4149720"/>
            <a:ext cx="2950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ytoskeleton"/>
          <p:cNvPicPr/>
          <p:nvPr/>
        </p:nvPicPr>
        <p:blipFill>
          <a:blip r:embed="rId1"/>
          <a:stretch/>
        </p:blipFill>
        <p:spPr>
          <a:xfrm>
            <a:off x="324000" y="2332080"/>
            <a:ext cx="4464000" cy="396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ytoskeleton"/>
          <p:cNvPicPr/>
          <p:nvPr/>
        </p:nvPicPr>
        <p:blipFill>
          <a:blip r:embed="rId2"/>
          <a:stretch/>
        </p:blipFill>
        <p:spPr>
          <a:xfrm>
            <a:off x="5003640" y="189000"/>
            <a:ext cx="387684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4186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ffff"/>
                </a:solidFill>
                <a:latin typeface="Tahoma"/>
              </a:rPr>
              <a:t>Cytoskel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3" name="Picture 6" descr="weisel1"/>
          <p:cNvPicPr/>
          <p:nvPr/>
        </p:nvPicPr>
        <p:blipFill>
          <a:blip r:embed="rId3"/>
          <a:stretch/>
        </p:blipFill>
        <p:spPr>
          <a:xfrm>
            <a:off x="5292720" y="3213000"/>
            <a:ext cx="33336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ytoskelet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ytoskeleton is an internal network of protein fibres which helps to keep the cell shape. There are three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actin filaments are able to move against each other and can cause the cell to move (WBC) or move organelles ar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termediate filaments help provide 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crotubules are cylinders made from a protein called tubulin. Microtubule motors on the tubulin use ATP for mov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chromosomes during mito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ve vesicles from ER to golgi bo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lagella and cil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th have the same structure but cilia are shorter and tend to occur in greater numbers (flagella 1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agella also tend to move the entire cell (sperm) cilia tend to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weep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bstances and mu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ch consists of a cylinder with a 9 + 2 arrangement of microtubules which use ATP as a source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7" descr="flagella"/>
          <p:cNvPicPr/>
          <p:nvPr/>
        </p:nvPicPr>
        <p:blipFill>
          <a:blip r:embed="rId1"/>
          <a:stretch/>
        </p:blipFill>
        <p:spPr>
          <a:xfrm>
            <a:off x="5292720" y="1197000"/>
            <a:ext cx="3381480" cy="2666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covermed"/>
          <p:cNvPicPr/>
          <p:nvPr/>
        </p:nvPicPr>
        <p:blipFill>
          <a:blip r:embed="rId2"/>
          <a:stretch/>
        </p:blipFill>
        <p:spPr>
          <a:xfrm>
            <a:off x="6877080" y="4076640"/>
            <a:ext cx="1776240" cy="226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C0088473-Abnormal_sperm,_SEM-SPL"/>
          <p:cNvPicPr/>
          <p:nvPr/>
        </p:nvPicPr>
        <p:blipFill>
          <a:blip r:embed="rId3"/>
          <a:stretch/>
        </p:blipFill>
        <p:spPr>
          <a:xfrm>
            <a:off x="4788000" y="4365720"/>
            <a:ext cx="180000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ell membr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unction of the plasma membran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ccur around the cell and determine what enters and leaves the ce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ccur around organelles isolating enzymes within the organe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ithin organelles providing  a large surface area for the attachment of enzy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a transport system within the cell. e.g vesic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885960" y="6113520"/>
            <a:ext cx="74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he structure of the plasma cell membrane will be studied in section 1.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ytoplas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plasm outside the organelles is called the cytos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sol is a complex mixture of </a:t>
            </a:r>
            <a:r>
              <a:rPr b="0" lang="en-GB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cytoskeleton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laments, dissolved molecules, and water that fills much of the volume of a cell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cytosol is the site of glycolysis (respir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01-02_AnimalCell(NL-Small)"/>
          <p:cNvPicPr/>
          <p:nvPr/>
        </p:nvPicPr>
        <p:blipFill>
          <a:blip r:embed="rId1"/>
          <a:stretch/>
        </p:blipFill>
        <p:spPr>
          <a:xfrm>
            <a:off x="1042920" y="692280"/>
            <a:ext cx="6842160" cy="5840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19280" y="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 eukaryotic animal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116000" y="1341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084720" y="51577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87280" y="5877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5580000" y="9079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ugh 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300720" y="1773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372360" y="314172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mooth 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372360" y="46530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1"/>
          <p:cNvSpPr/>
          <p:nvPr/>
        </p:nvSpPr>
        <p:spPr>
          <a:xfrm flipV="1">
            <a:off x="1692360" y="4652640"/>
            <a:ext cx="863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1979640" y="1700280"/>
            <a:ext cx="1297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1979640" y="1700280"/>
            <a:ext cx="1512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4"/>
          <p:cNvSpPr/>
          <p:nvPr/>
        </p:nvSpPr>
        <p:spPr>
          <a:xfrm flipH="1">
            <a:off x="4500720" y="1125360"/>
            <a:ext cx="10792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5"/>
          <p:cNvSpPr/>
          <p:nvPr/>
        </p:nvSpPr>
        <p:spPr>
          <a:xfrm flipH="1">
            <a:off x="5435280" y="1989000"/>
            <a:ext cx="8650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5651640" y="3357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7"/>
          <p:cNvSpPr/>
          <p:nvPr/>
        </p:nvSpPr>
        <p:spPr>
          <a:xfrm flipH="1" flipV="1">
            <a:off x="5724360" y="4797000"/>
            <a:ext cx="648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8"/>
          <p:cNvSpPr/>
          <p:nvPr/>
        </p:nvSpPr>
        <p:spPr>
          <a:xfrm flipH="1" flipV="1">
            <a:off x="4788000" y="5229000"/>
            <a:ext cx="129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709560" y="1433520"/>
            <a:ext cx="8433720" cy="4819680"/>
            <a:chOff x="709560" y="1433520"/>
            <a:chExt cx="8433720" cy="4819680"/>
          </a:xfrm>
        </p:grpSpPr>
        <p:grpSp>
          <p:nvGrpSpPr>
            <p:cNvPr id="177" name="Group 3"/>
            <p:cNvGrpSpPr/>
            <p:nvPr/>
          </p:nvGrpSpPr>
          <p:grpSpPr>
            <a:xfrm>
              <a:off x="709560" y="1433520"/>
              <a:ext cx="7726320" cy="4549680"/>
              <a:chOff x="709560" y="1433520"/>
              <a:chExt cx="7726320" cy="4549680"/>
            </a:xfrm>
          </p:grpSpPr>
          <p:pic>
            <p:nvPicPr>
              <p:cNvPr id="178" name="Picture 4" descr="plantanimsusx"/>
              <p:cNvPicPr/>
              <p:nvPr/>
            </p:nvPicPr>
            <p:blipFill>
              <a:blip r:embed="rId1"/>
              <a:stretch/>
            </p:blipFill>
            <p:spPr>
              <a:xfrm>
                <a:off x="709560" y="1433520"/>
                <a:ext cx="7726320" cy="400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" name="Group 5"/>
              <p:cNvGrpSpPr/>
              <p:nvPr/>
            </p:nvGrpSpPr>
            <p:grpSpPr>
              <a:xfrm>
                <a:off x="1218240" y="5613480"/>
                <a:ext cx="5811120" cy="369720"/>
                <a:chOff x="1218240" y="5613480"/>
                <a:chExt cx="5811120" cy="369720"/>
              </a:xfrm>
            </p:grpSpPr>
            <p:sp>
              <p:nvSpPr>
                <p:cNvPr id="180" name="Text Box 6"/>
                <p:cNvSpPr/>
                <p:nvPr/>
              </p:nvSpPr>
              <p:spPr>
                <a:xfrm>
                  <a:off x="1218240" y="5613480"/>
                  <a:ext cx="1811520" cy="3682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660033"/>
                      </a:solidFill>
                      <a:latin typeface="Times New Roman"/>
                    </a:rPr>
                    <a:t>ANIMAL CE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81" name="Text Box 7"/>
                <p:cNvSpPr/>
                <p:nvPr/>
              </p:nvSpPr>
              <p:spPr>
                <a:xfrm>
                  <a:off x="5394600" y="5614920"/>
                  <a:ext cx="1634760" cy="368280"/>
                </a:xfrm>
                <a:prstGeom prst="rect">
                  <a:avLst/>
                </a:pr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660033"/>
                      </a:solidFill>
                      <a:latin typeface="Times New Roman"/>
                    </a:rPr>
                    <a:t>PLANT CELL</a:t>
                  </a: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82" name="Text Box 8"/>
            <p:cNvSpPr/>
            <p:nvPr/>
          </p:nvSpPr>
          <p:spPr>
            <a:xfrm>
              <a:off x="7141320" y="5429160"/>
              <a:ext cx="2001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Courtesy of Dr. Julia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Thorpe – EM &amp; FACS Lab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Biological Scienc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 </a:t>
              </a:r>
              <a:r>
                <a:rPr b="1" lang="en-GB" sz="1200" spc="-1" strike="noStrike">
                  <a:solidFill>
                    <a:srgbClr val="000099"/>
                  </a:solidFill>
                  <a:latin typeface="Times New Roman"/>
                </a:rPr>
                <a:t>University Of Sussex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1546560" y="333360"/>
            <a:ext cx="62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lant and animal cells are eukaryotic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187640" y="1204920"/>
            <a:ext cx="7805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oth types of cell possess characteristic organelle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ough endoplasmic reticul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mooth endoplasmic reticul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Golgi apparat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Microtub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628920" y="3629160"/>
            <a:ext cx="78861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Times New Roman"/>
              </a:rPr>
              <a:t>Differences between mature plant and animal cells includ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1400040" y="4437000"/>
            <a:ext cx="6336000" cy="1326240"/>
            <a:chOff x="1400040" y="4437000"/>
            <a:chExt cx="6336000" cy="1326240"/>
          </a:xfrm>
        </p:grpSpPr>
        <p:sp>
          <p:nvSpPr>
            <p:cNvPr id="187" name="Text Box 7"/>
            <p:cNvSpPr/>
            <p:nvPr/>
          </p:nvSpPr>
          <p:spPr>
            <a:xfrm>
              <a:off x="1400040" y="4449600"/>
              <a:ext cx="46519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LANT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ellulose cell wall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arge vacuoles that store cell sap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hloroplasts in photosynthetic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8"/>
            <p:cNvSpPr/>
            <p:nvPr/>
          </p:nvSpPr>
          <p:spPr>
            <a:xfrm>
              <a:off x="5661000" y="4437000"/>
              <a:ext cx="207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ANIMAL CELL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icrovilli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buClr>
                  <a:srgbClr val="0000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entriole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ivision of labou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relationship between organel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DNA in the nucleus contains the code to produce the protein. A gene on the DNA will be copi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ode will be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nscibed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y m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RNA attaches to the ribosome (free or on R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protein will be made using tR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assembled protein inside the RER will be pinched off into a vesicle and transported to the golgi bo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olgi will package the protein and maybe modif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other vesicle will be pinched off the golgi and moved to cell surface for exocyt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578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Division of labour</a:t>
            </a:r>
            <a:br>
              <a:rPr sz="3200"/>
            </a:br>
            <a:r>
              <a:rPr b="0" lang="en-GB" sz="3200" spc="-1" strike="noStrike">
                <a:solidFill>
                  <a:srgbClr val="e5ffff"/>
                </a:solidFill>
                <a:latin typeface="Tahoma"/>
              </a:rPr>
              <a:t>How organelles work together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2" name="Picture 5" descr="figurea6"/>
          <p:cNvPicPr/>
          <p:nvPr/>
        </p:nvPicPr>
        <p:blipFill>
          <a:blip r:embed="rId1"/>
          <a:stretch/>
        </p:blipFill>
        <p:spPr>
          <a:xfrm>
            <a:off x="179280" y="0"/>
            <a:ext cx="5329440" cy="394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image001"/>
          <p:cNvPicPr/>
          <p:nvPr/>
        </p:nvPicPr>
        <p:blipFill>
          <a:blip r:embed="rId2"/>
          <a:stretch/>
        </p:blipFill>
        <p:spPr>
          <a:xfrm>
            <a:off x="5543640" y="3554280"/>
            <a:ext cx="36003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plant3"/>
          <p:cNvPicPr/>
          <p:nvPr/>
        </p:nvPicPr>
        <p:blipFill>
          <a:blip r:embed="rId1"/>
          <a:stretch/>
        </p:blipFill>
        <p:spPr>
          <a:xfrm>
            <a:off x="684360" y="947880"/>
            <a:ext cx="7416720" cy="55767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3276720" y="2602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 plant c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1-03_PlantCell(L-Large)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5833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2484360" y="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 eukaryotic plant cel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5ffff"/>
                </a:solidFill>
                <a:latin typeface="Tahoma"/>
              </a:rPr>
              <a:t>Eukaryotic cellular organelles and structure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76720" y="981000"/>
            <a:ext cx="36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Organel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Nucle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itochond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ndoplasmic reticul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Rib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Golgi bod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ysos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entri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hloropla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Vacuo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68360" y="1341360"/>
            <a:ext cx="43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detailed organisation of the cell is called the cell ultra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he ultrastructure of a cell can only be seen using an electron microsco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09-01_Nucleus(NL-Small)"/>
          <p:cNvPicPr/>
          <p:nvPr/>
        </p:nvPicPr>
        <p:blipFill>
          <a:blip r:embed="rId1"/>
          <a:stretch/>
        </p:blipFill>
        <p:spPr>
          <a:xfrm>
            <a:off x="395280" y="333360"/>
            <a:ext cx="7705800" cy="578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684360" y="1700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321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p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11280" y="3860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588000" y="342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1908000" y="407664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2"/>
          <p:cNvSpPr/>
          <p:nvPr/>
        </p:nvSpPr>
        <p:spPr>
          <a:xfrm flipH="1">
            <a:off x="5292720" y="3645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1835280" y="1989000"/>
            <a:ext cx="2016000" cy="7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1979640" y="3284280"/>
            <a:ext cx="1008000" cy="7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900000" y="62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tochondr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1835280" y="836640"/>
            <a:ext cx="1368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3780000" y="47628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ough 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4066920" y="765000"/>
            <a:ext cx="14436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ucleus controls the cells activi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t contains chromatin which are coils of DNA bound to protein. During cell division the chromatin condenses to form the chromosom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nucleus is surrounded by a nuclear envelope (double membrane) continuous with Rough ER. Pores allow transport of mRNA and nucleotides from the nucleus to the cytoplas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ytoplasm like material in the nucleus is called nucle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region called the nucleolus synthesises ribosom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7:46:19Z</dcterms:created>
  <dc:creator>DTHOMAS</dc:creator>
  <dc:description/>
  <dc:language>en-US</dc:language>
  <cp:lastModifiedBy>Sarah Preston</cp:lastModifiedBy>
  <dcterms:modified xsi:type="dcterms:W3CDTF">2014-08-29T08:04:41Z</dcterms:modified>
  <cp:revision>81</cp:revision>
  <dc:subject/>
  <dc:title>Slide 1</dc:title>
</cp:coreProperties>
</file>